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2.png" ContentType="image/png"/>
  <Override PartName="/ppt/media/image12.png" ContentType="image/png"/>
  <Override PartName="/ppt/media/image19.pct" ContentType="image/x-pict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2.pct" ContentType="image/x-pict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5.jpeg" ContentType="image/jpeg"/>
  <Override PartName="/ppt/media/image10.png" ContentType="image/png"/>
  <Override PartName="/ppt/media/image27.png" ContentType="image/png"/>
  <Override PartName="/ppt/media/image1.pct" ContentType="image/x-pict"/>
  <Override PartName="/ppt/media/image34.png" ContentType="image/png"/>
  <Override PartName="/ppt/media/image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4E3C-87FB-499E-98ED-B69EC9C7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8D12-E3B6-4179-A931-8EB8EFF1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FB1-CBB1-44AF-821E-C196BA1B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60CD-04EB-49A1-8C02-9926AB7D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255-F2CB-48AE-BD7B-E23E9BD8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DCB-EADE-49C0-8B44-24AB1758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549-F5F1-46B0-B8C6-ED2A5906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311-1792-4EAE-9F19-D561AF28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576-2930-4D50-8033-00D74093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BAA-8DE8-4C5E-9E48-F3A699C7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9D34-7983-43F5-99CC-BEB9820B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D96F-BCFC-454D-B903-AF4A5E04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A0AB-201C-4582-85A8-CCB888367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956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cs.berkeley.edu/Pubs/TechRpts/2006/EECS-2006-104.html" TargetMode="External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534520" cy="3700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81080"/>
            <a:ext cx="9524880" cy="426744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2320" y="914400"/>
            <a:ext cx="846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ative Genomics with 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206360"/>
            <a:ext cx="88390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9680" y="533520"/>
            <a:ext cx="89280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905040"/>
            <a:ext cx="84981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4024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6040" y="369720"/>
            <a:ext cx="8255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899480" cy="5187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9680" y="30492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 on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4684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831320" y="533520"/>
            <a:ext cx="49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Insertions/Dele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2360" y="1405080"/>
            <a:ext cx="8102520" cy="4051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04920" y="5335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king Indels with grid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008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33720" y="990720"/>
            <a:ext cx="60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 Ge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40040" y="1754280"/>
            <a:ext cx="5257800" cy="3340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52480" y="7621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(un)popular popup ballo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t comparative genomic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view the data with GBrowse_sy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3160" y="1252440"/>
            <a:ext cx="8800920" cy="4356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908000" y="5335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ng gene anno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160" y="687240"/>
            <a:ext cx="9016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50920" y="351000"/>
            <a:ext cx="684540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9169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8560" y="299880"/>
            <a:ext cx="5550120" cy="6261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715000" y="3809880"/>
            <a:ext cx="228600" cy="304920"/>
          </a:xfrm>
          <a:prstGeom prst="upArrow">
            <a:avLst>
              <a:gd name="adj1" fmla="val 50000"/>
              <a:gd name="adj2" fmla="val 33346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8195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6019920"/>
            <a:ext cx="228600" cy="304560"/>
          </a:xfrm>
          <a:prstGeom prst="upArrow">
            <a:avLst>
              <a:gd name="adj1" fmla="val 50000"/>
              <a:gd name="adj2" fmla="val 33307"/>
            </a:avLst>
          </a:prstGeom>
          <a:solidFill>
            <a:srgbClr val="e305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1643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705720" y="304920"/>
            <a:ext cx="30456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9000" y="990720"/>
            <a:ext cx="11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eleg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76440" y="2859120"/>
            <a:ext cx="5994360" cy="114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613120" cy="1473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9720" y="3200400"/>
            <a:ext cx="121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briggs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6040" y="52578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. reman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2819520"/>
            <a:ext cx="304920" cy="1218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4724280"/>
            <a:ext cx="304560" cy="1219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6518160" cy="3741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43920" y="914400"/>
            <a:ext cx="45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inspection of an 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47720" y="1981080"/>
            <a:ext cx="178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46840" cy="4168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821680" y="990720"/>
            <a:ext cx="27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ative gene lo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98200" y="68580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ing Al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53080" cy="25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143000" y="3938760"/>
            <a:ext cx="64850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archical Genome Alignmen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2666880"/>
            <a:ext cx="152640" cy="381240"/>
          </a:xfrm>
          <a:prstGeom prst="downArrow">
            <a:avLst>
              <a:gd name="adj1" fmla="val 50000"/>
              <a:gd name="adj2" fmla="val 624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2767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45720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6280" y="2530440"/>
            <a:ext cx="62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k repe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eatMasker [97] and Tandem Repeats Finder, nmerge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91760" y="3124080"/>
            <a:ext cx="274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orthologous reg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ERCATOR, orthocluster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93560" y="3886200"/>
            <a:ext cx="232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cleotide-level alig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ECAN, MAVID, etc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4200" y="4572000"/>
            <a:ext cx="233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processing (GE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40384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29320" y="39765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05320" y="32623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76840" y="320040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28280" y="510552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68280" y="2057400"/>
            <a:ext cx="21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w genomic sequ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49440" y="1371600"/>
            <a:ext cx="7845120" cy="4114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75040" y="68580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ly” sequence alignment view (definit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X-based image configuration (probab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 image rendering? (may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: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655308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93720" y="617400"/>
            <a:ext cx="757512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d 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 C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son Staj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mBase 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hington University Genome Sequencing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ecs.berkeley.edu/Pubs/TechRpts/2006/EECS-2006-104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rot="2488200">
            <a:off x="6895800" y="1507680"/>
            <a:ext cx="633240" cy="2121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4495680" cy="6001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467480" y="5700600"/>
            <a:ext cx="13147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2568600" cy="2971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2160720" cy="179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352680" y="457200"/>
            <a:ext cx="3272040" cy="833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 flipH="1">
            <a:off x="1676520" y="3429000"/>
            <a:ext cx="156816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1800" y="83808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0800" y="15228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13716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Brow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9200" y="312408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038480" y="5334120"/>
            <a:ext cx="4648320" cy="127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295880" y="4876920"/>
            <a:ext cx="34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Browse UCSC-style conservation tr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62320" y="838080"/>
            <a:ext cx="387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GBrowse_sy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133720"/>
            <a:ext cx="750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 of the Generic Genome Browser Package (GBrow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raphical multiple sequence alignment 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imposes sequence alignment data on genes and other  sequenc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s two or more species to a central reference spe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56296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62840" y="68580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-lik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754380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2520" y="5334120"/>
            <a:ext cx="1295280" cy="685800"/>
          </a:xfrm>
          <a:prstGeom prst="flowChartMagneticDisk">
            <a:avLst/>
          </a:prstGeom>
          <a:solidFill>
            <a:srgbClr val="e30507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3080" y="4800600"/>
            <a:ext cx="1447920" cy="16002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29080" y="4952880"/>
            <a:ext cx="1143000" cy="11430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520" y="4572000"/>
            <a:ext cx="1295280" cy="68580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2520" y="6095880"/>
            <a:ext cx="1295280" cy="685800"/>
          </a:xfrm>
          <a:prstGeom prst="flowChartMagneticDisk">
            <a:avLst/>
          </a:prstGeom>
          <a:solidFill>
            <a:srgbClr val="1537e3">
              <a:alpha val="7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2800" y="5029200"/>
            <a:ext cx="1523880" cy="68580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160" y="3276720"/>
            <a:ext cx="149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97520" y="518148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124080" y="15840"/>
            <a:ext cx="3124440" cy="1355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31240" y="525780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syn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77120" y="3429000"/>
            <a:ext cx="176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3505320"/>
            <a:ext cx="533160" cy="990360"/>
          </a:xfrm>
          <a:prstGeom prst="upArrow">
            <a:avLst>
              <a:gd name="adj1" fmla="val 50000"/>
              <a:gd name="adj2" fmla="val 4643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81720" y="3581280"/>
            <a:ext cx="533160" cy="990720"/>
          </a:xfrm>
          <a:prstGeom prst="upArrow">
            <a:avLst>
              <a:gd name="adj1" fmla="val 50000"/>
              <a:gd name="adj2" fmla="val 4645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3116400">
            <a:off x="2220840" y="3211200"/>
            <a:ext cx="587160" cy="1524240"/>
          </a:xfrm>
          <a:prstGeom prst="upDownArrow">
            <a:avLst>
              <a:gd name="adj1" fmla="val 50000"/>
              <a:gd name="adj2" fmla="val 5167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286000"/>
            <a:ext cx="3504960" cy="9144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8080" y="1447920"/>
            <a:ext cx="533520" cy="685800"/>
          </a:xfrm>
          <a:prstGeom prst="upArrow">
            <a:avLst>
              <a:gd name="adj1" fmla="val 41667"/>
              <a:gd name="adj2" fmla="val 5929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8483600">
            <a:off x="6716520" y="3211560"/>
            <a:ext cx="587160" cy="1523880"/>
          </a:xfrm>
          <a:prstGeom prst="upDownArrow">
            <a:avLst>
              <a:gd name="adj1" fmla="val 50000"/>
              <a:gd name="adj2" fmla="val 5166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33360" y="6629400"/>
            <a:ext cx="357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es config.                     Master confi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97960" cy="5810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93080" y="2286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_sy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0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2680" y="6172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6200" y="61866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7880" y="91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Brows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4:54:05Z</dcterms:created>
  <dc:creator>Sheldon  Mckay</dc:creator>
  <dc:description/>
  <dc:language>en-US</dc:language>
  <cp:lastModifiedBy>GMOD / NESCent</cp:lastModifiedBy>
  <dcterms:modified xsi:type="dcterms:W3CDTF">2009-06-06T20:44:02Z</dcterms:modified>
  <cp:revision>17</cp:revision>
  <dc:subject/>
  <dc:title>PowerPoint Presentation</dc:title>
</cp:coreProperties>
</file>